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70A1-A2B1-4B53-94F2-C0F2D58C3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7465-9677-477D-B97C-7C7FA9835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068D-5FF4-44C5-B7BA-FF8F46E2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B954-00C1-4D54-A672-0A000A8A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22B1-53E3-4C65-B57D-8BB8A587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5FF7-11E9-4F3E-88BE-2E304DBF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94A8-C1F5-4E19-BD1A-11FC5657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D786-8099-4AAF-BFAF-9F89907F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A31B-D9EC-482A-BF20-97750433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4BC7-CA76-4B28-AC45-47587F1C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C5B0-347E-4F30-9847-F101D0E3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305F-406D-44BD-BEFE-07AC039A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3042b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3042b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3042b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3042b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3042b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3042b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042b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3042b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3042b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3042b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B4FD-C192-4B29-92FF-02815A33C607}" type="slidenum">
              <a:rPr b="0" lang="en-US" sz="1400" spc="-1" strike="noStrike">
                <a:solidFill>
                  <a:srgbClr val="03042b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3042b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112680" y="0"/>
            <a:ext cx="77724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How do we define…</a:t>
            </a:r>
            <a:endParaRPr b="0" lang="en-US" sz="4400" spc="-1" strike="noStrike">
              <a:solidFill>
                <a:srgbClr val="03042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is a “moment of truth”?</a:t>
            </a:r>
            <a:endParaRPr b="0" lang="en-US" sz="40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3753000"/>
            <a:ext cx="129528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"/>
          <p:cNvSpPr/>
          <p:nvPr/>
        </p:nvSpPr>
        <p:spPr>
          <a:xfrm>
            <a:off x="6408720" y="1952640"/>
            <a:ext cx="23036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mo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4653000"/>
            <a:ext cx="7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"/>
          <p:cNvSpPr/>
          <p:nvPr/>
        </p:nvSpPr>
        <p:spPr>
          <a:xfrm>
            <a:off x="3637080" y="3753000"/>
            <a:ext cx="1692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whi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3780000" y="4653000"/>
            <a:ext cx="147636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one’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6192720" y="4653000"/>
            <a:ext cx="280836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charac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358920" y="5553000"/>
            <a:ext cx="2268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cour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"/>
          <p:cNvSpPr/>
          <p:nvPr/>
        </p:nvSpPr>
        <p:spPr>
          <a:xfrm>
            <a:off x="647640" y="2852640"/>
            <a:ext cx="136836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ski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1952640"/>
            <a:ext cx="2155680" cy="6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and/o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"/>
          <p:cNvSpPr/>
          <p:nvPr/>
        </p:nvSpPr>
        <p:spPr>
          <a:xfrm>
            <a:off x="3960720" y="5553000"/>
            <a:ext cx="82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792000" y="1952640"/>
            <a:ext cx="1187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pu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3960720" y="2852640"/>
            <a:ext cx="828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6985080" y="2852640"/>
            <a:ext cx="792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a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6335640" y="5526000"/>
            <a:ext cx="2484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extre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"/>
          <p:cNvSpPr/>
          <p:nvPr/>
        </p:nvSpPr>
        <p:spPr>
          <a:xfrm>
            <a:off x="6804000" y="3753000"/>
            <a:ext cx="133200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160640"/>
            <a:ext cx="9144000" cy="56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is a “moment of truth”?</a:t>
            </a:r>
            <a:endParaRPr b="0" lang="en-US" sz="40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2528640"/>
            <a:ext cx="799308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the moment at which one's character, courage, and/or skill is put to an extreme test</a:t>
            </a:r>
            <a:endParaRPr b="0" lang="en-US" sz="44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99" name=""/>
          <p:cNvSpPr/>
          <p:nvPr/>
        </p:nvSpPr>
        <p:spPr>
          <a:xfrm>
            <a:off x="5149800" y="1960560"/>
            <a:ext cx="36352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the mo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5553000"/>
            <a:ext cx="26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at whi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4365720"/>
            <a:ext cx="914400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one’s character,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005280"/>
            <a:ext cx="91440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courage, and/or ski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"/>
          <p:cNvSpPr/>
          <p:nvPr/>
        </p:nvSpPr>
        <p:spPr>
          <a:xfrm>
            <a:off x="396720" y="1952640"/>
            <a:ext cx="2951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is put t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"/>
          <p:cNvSpPr/>
          <p:nvPr/>
        </p:nvSpPr>
        <p:spPr>
          <a:xfrm>
            <a:off x="4032360" y="5526000"/>
            <a:ext cx="5292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an extreme te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8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904080" y="5418000"/>
            <a:ext cx="223992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3042b"/>
                </a:solidFill>
                <a:latin typeface="Comic Sans MS"/>
              </a:rPr>
              <a:t>PREWRITING</a:t>
            </a:r>
            <a:endParaRPr b="0" lang="en-US" sz="5400" spc="-1" strike="noStrike">
              <a:solidFill>
                <a:srgbClr val="03042b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334800" y="173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84360" y="4365720"/>
            <a:ext cx="2286000" cy="161136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4896000" y="1411200"/>
            <a:ext cx="3871800" cy="5085000"/>
            <a:chOff x="4896000" y="1411200"/>
            <a:chExt cx="3871800" cy="5085000"/>
          </a:xfrm>
        </p:grpSpPr>
        <p:sp>
          <p:nvSpPr>
            <p:cNvPr id="110" name=""/>
            <p:cNvSpPr/>
            <p:nvPr/>
          </p:nvSpPr>
          <p:spPr>
            <a:xfrm>
              <a:off x="4896000" y="1411200"/>
              <a:ext cx="3871800" cy="508500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29200"/>
              <a:ext cx="0" cy="5066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96000" y="3971880"/>
              <a:ext cx="3871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66560" y="3652920"/>
              <a:ext cx="1929960" cy="6314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8096400" y="3889440"/>
            <a:ext cx="726840" cy="828720"/>
          </a:xfrm>
          <a:custGeom>
            <a:avLst/>
            <a:gdLst/>
            <a:ahLst/>
            <a:rect l="l" t="t" r="r" b="b"/>
            <a:pathLst>
              <a:path w="2892" h="2081">
                <a:moveTo>
                  <a:pt x="713" y="168"/>
                </a:moveTo>
                <a:cubicBezTo>
                  <a:pt x="732" y="144"/>
                  <a:pt x="833" y="111"/>
                  <a:pt x="897" y="88"/>
                </a:cubicBezTo>
                <a:cubicBezTo>
                  <a:pt x="961" y="65"/>
                  <a:pt x="1041" y="45"/>
                  <a:pt x="1097" y="32"/>
                </a:cubicBezTo>
                <a:cubicBezTo>
                  <a:pt x="1153" y="19"/>
                  <a:pt x="1178" y="13"/>
                  <a:pt x="1233" y="8"/>
                </a:cubicBezTo>
                <a:cubicBezTo>
                  <a:pt x="1288" y="3"/>
                  <a:pt x="1354" y="0"/>
                  <a:pt x="1425" y="0"/>
                </a:cubicBezTo>
                <a:cubicBezTo>
                  <a:pt x="1496" y="0"/>
                  <a:pt x="1584" y="1"/>
                  <a:pt x="1657" y="8"/>
                </a:cubicBezTo>
                <a:cubicBezTo>
                  <a:pt x="1730" y="15"/>
                  <a:pt x="1805" y="28"/>
                  <a:pt x="1865" y="40"/>
                </a:cubicBezTo>
                <a:cubicBezTo>
                  <a:pt x="1925" y="52"/>
                  <a:pt x="1985" y="68"/>
                  <a:pt x="2017" y="80"/>
                </a:cubicBezTo>
                <a:cubicBezTo>
                  <a:pt x="2049" y="92"/>
                  <a:pt x="2062" y="95"/>
                  <a:pt x="2057" y="112"/>
                </a:cubicBezTo>
                <a:cubicBezTo>
                  <a:pt x="2052" y="129"/>
                  <a:pt x="2004" y="157"/>
                  <a:pt x="1985" y="184"/>
                </a:cubicBezTo>
                <a:cubicBezTo>
                  <a:pt x="1966" y="211"/>
                  <a:pt x="1954" y="237"/>
                  <a:pt x="1945" y="272"/>
                </a:cubicBezTo>
                <a:cubicBezTo>
                  <a:pt x="1936" y="307"/>
                  <a:pt x="1924" y="355"/>
                  <a:pt x="1929" y="392"/>
                </a:cubicBezTo>
                <a:cubicBezTo>
                  <a:pt x="1934" y="429"/>
                  <a:pt x="1956" y="467"/>
                  <a:pt x="1977" y="496"/>
                </a:cubicBezTo>
                <a:cubicBezTo>
                  <a:pt x="1998" y="525"/>
                  <a:pt x="2026" y="548"/>
                  <a:pt x="2057" y="568"/>
                </a:cubicBezTo>
                <a:cubicBezTo>
                  <a:pt x="2088" y="588"/>
                  <a:pt x="2129" y="608"/>
                  <a:pt x="2161" y="616"/>
                </a:cubicBezTo>
                <a:cubicBezTo>
                  <a:pt x="2193" y="624"/>
                  <a:pt x="2225" y="633"/>
                  <a:pt x="2249" y="616"/>
                </a:cubicBezTo>
                <a:cubicBezTo>
                  <a:pt x="2273" y="599"/>
                  <a:pt x="2296" y="544"/>
                  <a:pt x="2305" y="512"/>
                </a:cubicBezTo>
                <a:cubicBezTo>
                  <a:pt x="2314" y="480"/>
                  <a:pt x="2294" y="452"/>
                  <a:pt x="2305" y="424"/>
                </a:cubicBezTo>
                <a:cubicBezTo>
                  <a:pt x="2316" y="396"/>
                  <a:pt x="2346" y="365"/>
                  <a:pt x="2369" y="344"/>
                </a:cubicBezTo>
                <a:cubicBezTo>
                  <a:pt x="2392" y="323"/>
                  <a:pt x="2413" y="307"/>
                  <a:pt x="2441" y="296"/>
                </a:cubicBezTo>
                <a:cubicBezTo>
                  <a:pt x="2469" y="285"/>
                  <a:pt x="2508" y="279"/>
                  <a:pt x="2537" y="280"/>
                </a:cubicBezTo>
                <a:cubicBezTo>
                  <a:pt x="2566" y="281"/>
                  <a:pt x="2592" y="285"/>
                  <a:pt x="2617" y="304"/>
                </a:cubicBezTo>
                <a:cubicBezTo>
                  <a:pt x="2642" y="323"/>
                  <a:pt x="2672" y="367"/>
                  <a:pt x="2689" y="392"/>
                </a:cubicBezTo>
                <a:cubicBezTo>
                  <a:pt x="2706" y="417"/>
                  <a:pt x="2704" y="427"/>
                  <a:pt x="2721" y="456"/>
                </a:cubicBezTo>
                <a:cubicBezTo>
                  <a:pt x="2738" y="485"/>
                  <a:pt x="2768" y="512"/>
                  <a:pt x="2793" y="568"/>
                </a:cubicBezTo>
                <a:cubicBezTo>
                  <a:pt x="2818" y="624"/>
                  <a:pt x="2857" y="728"/>
                  <a:pt x="2873" y="792"/>
                </a:cubicBezTo>
                <a:cubicBezTo>
                  <a:pt x="2889" y="856"/>
                  <a:pt x="2892" y="897"/>
                  <a:pt x="2889" y="952"/>
                </a:cubicBezTo>
                <a:cubicBezTo>
                  <a:pt x="2886" y="1007"/>
                  <a:pt x="2878" y="1080"/>
                  <a:pt x="2857" y="1120"/>
                </a:cubicBezTo>
                <a:cubicBezTo>
                  <a:pt x="2836" y="1160"/>
                  <a:pt x="2790" y="1187"/>
                  <a:pt x="2761" y="1192"/>
                </a:cubicBezTo>
                <a:cubicBezTo>
                  <a:pt x="2732" y="1197"/>
                  <a:pt x="2704" y="1168"/>
                  <a:pt x="2681" y="1152"/>
                </a:cubicBezTo>
                <a:cubicBezTo>
                  <a:pt x="2658" y="1136"/>
                  <a:pt x="2645" y="1111"/>
                  <a:pt x="2625" y="1096"/>
                </a:cubicBezTo>
                <a:cubicBezTo>
                  <a:pt x="2605" y="1081"/>
                  <a:pt x="2596" y="1068"/>
                  <a:pt x="2561" y="1064"/>
                </a:cubicBezTo>
                <a:cubicBezTo>
                  <a:pt x="2526" y="1060"/>
                  <a:pt x="2458" y="1056"/>
                  <a:pt x="2417" y="1072"/>
                </a:cubicBezTo>
                <a:cubicBezTo>
                  <a:pt x="2376" y="1088"/>
                  <a:pt x="2340" y="1128"/>
                  <a:pt x="2313" y="1160"/>
                </a:cubicBezTo>
                <a:cubicBezTo>
                  <a:pt x="2286" y="1192"/>
                  <a:pt x="2264" y="1227"/>
                  <a:pt x="2257" y="1264"/>
                </a:cubicBezTo>
                <a:cubicBezTo>
                  <a:pt x="2250" y="1301"/>
                  <a:pt x="2264" y="1347"/>
                  <a:pt x="2273" y="1384"/>
                </a:cubicBezTo>
                <a:cubicBezTo>
                  <a:pt x="2282" y="1421"/>
                  <a:pt x="2294" y="1460"/>
                  <a:pt x="2313" y="1488"/>
                </a:cubicBezTo>
                <a:cubicBezTo>
                  <a:pt x="2332" y="1516"/>
                  <a:pt x="2362" y="1533"/>
                  <a:pt x="2385" y="1552"/>
                </a:cubicBezTo>
                <a:cubicBezTo>
                  <a:pt x="2408" y="1571"/>
                  <a:pt x="2441" y="1584"/>
                  <a:pt x="2449" y="1600"/>
                </a:cubicBezTo>
                <a:cubicBezTo>
                  <a:pt x="2457" y="1616"/>
                  <a:pt x="2457" y="1625"/>
                  <a:pt x="2433" y="1648"/>
                </a:cubicBezTo>
                <a:cubicBezTo>
                  <a:pt x="2409" y="1671"/>
                  <a:pt x="2357" y="1707"/>
                  <a:pt x="2305" y="1736"/>
                </a:cubicBezTo>
                <a:cubicBezTo>
                  <a:pt x="2253" y="1765"/>
                  <a:pt x="2189" y="1799"/>
                  <a:pt x="2121" y="1824"/>
                </a:cubicBezTo>
                <a:cubicBezTo>
                  <a:pt x="2053" y="1849"/>
                  <a:pt x="1966" y="1871"/>
                  <a:pt x="1897" y="1888"/>
                </a:cubicBezTo>
                <a:cubicBezTo>
                  <a:pt x="1828" y="1905"/>
                  <a:pt x="1762" y="1916"/>
                  <a:pt x="1705" y="1928"/>
                </a:cubicBezTo>
                <a:cubicBezTo>
                  <a:pt x="1648" y="1940"/>
                  <a:pt x="1593" y="1956"/>
                  <a:pt x="1553" y="1960"/>
                </a:cubicBezTo>
                <a:cubicBezTo>
                  <a:pt x="1513" y="1964"/>
                  <a:pt x="1480" y="1964"/>
                  <a:pt x="1465" y="1952"/>
                </a:cubicBezTo>
                <a:cubicBezTo>
                  <a:pt x="1450" y="1940"/>
                  <a:pt x="1469" y="1921"/>
                  <a:pt x="1465" y="1888"/>
                </a:cubicBezTo>
                <a:cubicBezTo>
                  <a:pt x="1461" y="1855"/>
                  <a:pt x="1464" y="1792"/>
                  <a:pt x="1441" y="1752"/>
                </a:cubicBezTo>
                <a:cubicBezTo>
                  <a:pt x="1418" y="1712"/>
                  <a:pt x="1366" y="1672"/>
                  <a:pt x="1329" y="1648"/>
                </a:cubicBezTo>
                <a:cubicBezTo>
                  <a:pt x="1292" y="1624"/>
                  <a:pt x="1265" y="1607"/>
                  <a:pt x="1217" y="1608"/>
                </a:cubicBezTo>
                <a:cubicBezTo>
                  <a:pt x="1169" y="1609"/>
                  <a:pt x="1088" y="1635"/>
                  <a:pt x="1041" y="1656"/>
                </a:cubicBezTo>
                <a:cubicBezTo>
                  <a:pt x="994" y="1677"/>
                  <a:pt x="962" y="1708"/>
                  <a:pt x="937" y="1736"/>
                </a:cubicBezTo>
                <a:cubicBezTo>
                  <a:pt x="912" y="1764"/>
                  <a:pt x="896" y="1785"/>
                  <a:pt x="889" y="1824"/>
                </a:cubicBezTo>
                <a:cubicBezTo>
                  <a:pt x="882" y="1863"/>
                  <a:pt x="904" y="1932"/>
                  <a:pt x="897" y="1968"/>
                </a:cubicBezTo>
                <a:cubicBezTo>
                  <a:pt x="890" y="2004"/>
                  <a:pt x="876" y="2021"/>
                  <a:pt x="849" y="2040"/>
                </a:cubicBezTo>
                <a:cubicBezTo>
                  <a:pt x="822" y="2059"/>
                  <a:pt x="789" y="2081"/>
                  <a:pt x="737" y="2080"/>
                </a:cubicBezTo>
                <a:cubicBezTo>
                  <a:pt x="685" y="2079"/>
                  <a:pt x="608" y="2069"/>
                  <a:pt x="537" y="2032"/>
                </a:cubicBezTo>
                <a:cubicBezTo>
                  <a:pt x="466" y="1995"/>
                  <a:pt x="354" y="1901"/>
                  <a:pt x="313" y="1856"/>
                </a:cubicBezTo>
                <a:cubicBezTo>
                  <a:pt x="272" y="1811"/>
                  <a:pt x="288" y="1789"/>
                  <a:pt x="289" y="1760"/>
                </a:cubicBezTo>
                <a:cubicBezTo>
                  <a:pt x="290" y="1731"/>
                  <a:pt x="302" y="1703"/>
                  <a:pt x="321" y="1680"/>
                </a:cubicBezTo>
                <a:cubicBezTo>
                  <a:pt x="340" y="1657"/>
                  <a:pt x="376" y="1635"/>
                  <a:pt x="401" y="1624"/>
                </a:cubicBezTo>
                <a:cubicBezTo>
                  <a:pt x="426" y="1613"/>
                  <a:pt x="446" y="1616"/>
                  <a:pt x="473" y="1616"/>
                </a:cubicBezTo>
                <a:cubicBezTo>
                  <a:pt x="500" y="1616"/>
                  <a:pt x="534" y="1635"/>
                  <a:pt x="561" y="1624"/>
                </a:cubicBezTo>
                <a:cubicBezTo>
                  <a:pt x="588" y="1613"/>
                  <a:pt x="612" y="1575"/>
                  <a:pt x="633" y="1552"/>
                </a:cubicBezTo>
                <a:cubicBezTo>
                  <a:pt x="654" y="1529"/>
                  <a:pt x="677" y="1510"/>
                  <a:pt x="689" y="1488"/>
                </a:cubicBezTo>
                <a:cubicBezTo>
                  <a:pt x="701" y="1466"/>
                  <a:pt x="705" y="1440"/>
                  <a:pt x="705" y="1416"/>
                </a:cubicBezTo>
                <a:cubicBezTo>
                  <a:pt x="705" y="1392"/>
                  <a:pt x="696" y="1367"/>
                  <a:pt x="689" y="1344"/>
                </a:cubicBezTo>
                <a:cubicBezTo>
                  <a:pt x="682" y="1321"/>
                  <a:pt x="677" y="1299"/>
                  <a:pt x="665" y="1280"/>
                </a:cubicBezTo>
                <a:cubicBezTo>
                  <a:pt x="653" y="1261"/>
                  <a:pt x="636" y="1245"/>
                  <a:pt x="617" y="1232"/>
                </a:cubicBezTo>
                <a:cubicBezTo>
                  <a:pt x="598" y="1219"/>
                  <a:pt x="577" y="1211"/>
                  <a:pt x="553" y="1200"/>
                </a:cubicBezTo>
                <a:cubicBezTo>
                  <a:pt x="529" y="1189"/>
                  <a:pt x="504" y="1172"/>
                  <a:pt x="473" y="1168"/>
                </a:cubicBezTo>
                <a:cubicBezTo>
                  <a:pt x="442" y="1164"/>
                  <a:pt x="401" y="1169"/>
                  <a:pt x="369" y="1176"/>
                </a:cubicBezTo>
                <a:cubicBezTo>
                  <a:pt x="337" y="1183"/>
                  <a:pt x="309" y="1196"/>
                  <a:pt x="281" y="1208"/>
                </a:cubicBezTo>
                <a:cubicBezTo>
                  <a:pt x="253" y="1220"/>
                  <a:pt x="232" y="1248"/>
                  <a:pt x="201" y="1248"/>
                </a:cubicBezTo>
                <a:cubicBezTo>
                  <a:pt x="170" y="1248"/>
                  <a:pt x="120" y="1227"/>
                  <a:pt x="97" y="1208"/>
                </a:cubicBezTo>
                <a:cubicBezTo>
                  <a:pt x="74" y="1189"/>
                  <a:pt x="76" y="1156"/>
                  <a:pt x="65" y="1136"/>
                </a:cubicBezTo>
                <a:cubicBezTo>
                  <a:pt x="54" y="1116"/>
                  <a:pt x="41" y="1107"/>
                  <a:pt x="33" y="1088"/>
                </a:cubicBezTo>
                <a:cubicBezTo>
                  <a:pt x="25" y="1069"/>
                  <a:pt x="22" y="1055"/>
                  <a:pt x="17" y="1024"/>
                </a:cubicBezTo>
                <a:cubicBezTo>
                  <a:pt x="12" y="993"/>
                  <a:pt x="2" y="945"/>
                  <a:pt x="1" y="904"/>
                </a:cubicBezTo>
                <a:cubicBezTo>
                  <a:pt x="0" y="863"/>
                  <a:pt x="4" y="812"/>
                  <a:pt x="9" y="776"/>
                </a:cubicBezTo>
                <a:cubicBezTo>
                  <a:pt x="14" y="740"/>
                  <a:pt x="21" y="720"/>
                  <a:pt x="33" y="688"/>
                </a:cubicBezTo>
                <a:cubicBezTo>
                  <a:pt x="45" y="656"/>
                  <a:pt x="57" y="621"/>
                  <a:pt x="81" y="584"/>
                </a:cubicBezTo>
                <a:cubicBezTo>
                  <a:pt x="105" y="547"/>
                  <a:pt x="146" y="488"/>
                  <a:pt x="177" y="464"/>
                </a:cubicBezTo>
                <a:cubicBezTo>
                  <a:pt x="208" y="440"/>
                  <a:pt x="237" y="441"/>
                  <a:pt x="265" y="440"/>
                </a:cubicBezTo>
                <a:cubicBezTo>
                  <a:pt x="293" y="439"/>
                  <a:pt x="320" y="437"/>
                  <a:pt x="345" y="456"/>
                </a:cubicBezTo>
                <a:cubicBezTo>
                  <a:pt x="370" y="475"/>
                  <a:pt x="396" y="527"/>
                  <a:pt x="417" y="552"/>
                </a:cubicBezTo>
                <a:cubicBezTo>
                  <a:pt x="438" y="577"/>
                  <a:pt x="445" y="591"/>
                  <a:pt x="473" y="608"/>
                </a:cubicBezTo>
                <a:cubicBezTo>
                  <a:pt x="501" y="625"/>
                  <a:pt x="545" y="647"/>
                  <a:pt x="585" y="656"/>
                </a:cubicBezTo>
                <a:cubicBezTo>
                  <a:pt x="625" y="665"/>
                  <a:pt x="672" y="677"/>
                  <a:pt x="713" y="664"/>
                </a:cubicBezTo>
                <a:cubicBezTo>
                  <a:pt x="754" y="651"/>
                  <a:pt x="806" y="608"/>
                  <a:pt x="833" y="576"/>
                </a:cubicBezTo>
                <a:cubicBezTo>
                  <a:pt x="860" y="544"/>
                  <a:pt x="868" y="507"/>
                  <a:pt x="873" y="472"/>
                </a:cubicBezTo>
                <a:cubicBezTo>
                  <a:pt x="878" y="437"/>
                  <a:pt x="872" y="399"/>
                  <a:pt x="865" y="368"/>
                </a:cubicBezTo>
                <a:cubicBezTo>
                  <a:pt x="858" y="337"/>
                  <a:pt x="846" y="311"/>
                  <a:pt x="833" y="288"/>
                </a:cubicBezTo>
                <a:cubicBezTo>
                  <a:pt x="820" y="265"/>
                  <a:pt x="804" y="249"/>
                  <a:pt x="785" y="232"/>
                </a:cubicBezTo>
                <a:cubicBezTo>
                  <a:pt x="766" y="215"/>
                  <a:pt x="694" y="192"/>
                  <a:pt x="713" y="168"/>
                </a:cubicBezTo>
                <a:close/>
              </a:path>
            </a:pathLst>
          </a:custGeom>
          <a:solidFill>
            <a:srgbClr val="ff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"/>
          <p:cNvSpPr/>
          <p:nvPr/>
        </p:nvSpPr>
        <p:spPr>
          <a:xfrm>
            <a:off x="6784920" y="1335240"/>
            <a:ext cx="725400" cy="828360"/>
          </a:xfrm>
          <a:custGeom>
            <a:avLst/>
            <a:gdLst/>
            <a:ahLst/>
            <a:rect l="l" t="t" r="r" b="b"/>
            <a:pathLst>
              <a:path w="2892" h="2081">
                <a:moveTo>
                  <a:pt x="713" y="168"/>
                </a:moveTo>
                <a:cubicBezTo>
                  <a:pt x="732" y="144"/>
                  <a:pt x="833" y="111"/>
                  <a:pt x="897" y="88"/>
                </a:cubicBezTo>
                <a:cubicBezTo>
                  <a:pt x="961" y="65"/>
                  <a:pt x="1041" y="45"/>
                  <a:pt x="1097" y="32"/>
                </a:cubicBezTo>
                <a:cubicBezTo>
                  <a:pt x="1153" y="19"/>
                  <a:pt x="1178" y="13"/>
                  <a:pt x="1233" y="8"/>
                </a:cubicBezTo>
                <a:cubicBezTo>
                  <a:pt x="1288" y="3"/>
                  <a:pt x="1354" y="0"/>
                  <a:pt x="1425" y="0"/>
                </a:cubicBezTo>
                <a:cubicBezTo>
                  <a:pt x="1496" y="0"/>
                  <a:pt x="1584" y="1"/>
                  <a:pt x="1657" y="8"/>
                </a:cubicBezTo>
                <a:cubicBezTo>
                  <a:pt x="1730" y="15"/>
                  <a:pt x="1805" y="28"/>
                  <a:pt x="1865" y="40"/>
                </a:cubicBezTo>
                <a:cubicBezTo>
                  <a:pt x="1925" y="52"/>
                  <a:pt x="1985" y="68"/>
                  <a:pt x="2017" y="80"/>
                </a:cubicBezTo>
                <a:cubicBezTo>
                  <a:pt x="2049" y="92"/>
                  <a:pt x="2062" y="95"/>
                  <a:pt x="2057" y="112"/>
                </a:cubicBezTo>
                <a:cubicBezTo>
                  <a:pt x="2052" y="129"/>
                  <a:pt x="2004" y="157"/>
                  <a:pt x="1985" y="184"/>
                </a:cubicBezTo>
                <a:cubicBezTo>
                  <a:pt x="1966" y="211"/>
                  <a:pt x="1954" y="237"/>
                  <a:pt x="1945" y="272"/>
                </a:cubicBezTo>
                <a:cubicBezTo>
                  <a:pt x="1936" y="307"/>
                  <a:pt x="1924" y="355"/>
                  <a:pt x="1929" y="392"/>
                </a:cubicBezTo>
                <a:cubicBezTo>
                  <a:pt x="1934" y="429"/>
                  <a:pt x="1956" y="467"/>
                  <a:pt x="1977" y="496"/>
                </a:cubicBezTo>
                <a:cubicBezTo>
                  <a:pt x="1998" y="525"/>
                  <a:pt x="2026" y="548"/>
                  <a:pt x="2057" y="568"/>
                </a:cubicBezTo>
                <a:cubicBezTo>
                  <a:pt x="2088" y="588"/>
                  <a:pt x="2129" y="608"/>
                  <a:pt x="2161" y="616"/>
                </a:cubicBezTo>
                <a:cubicBezTo>
                  <a:pt x="2193" y="624"/>
                  <a:pt x="2225" y="633"/>
                  <a:pt x="2249" y="616"/>
                </a:cubicBezTo>
                <a:cubicBezTo>
                  <a:pt x="2273" y="599"/>
                  <a:pt x="2296" y="544"/>
                  <a:pt x="2305" y="512"/>
                </a:cubicBezTo>
                <a:cubicBezTo>
                  <a:pt x="2314" y="480"/>
                  <a:pt x="2294" y="452"/>
                  <a:pt x="2305" y="424"/>
                </a:cubicBezTo>
                <a:cubicBezTo>
                  <a:pt x="2316" y="396"/>
                  <a:pt x="2346" y="365"/>
                  <a:pt x="2369" y="344"/>
                </a:cubicBezTo>
                <a:cubicBezTo>
                  <a:pt x="2392" y="323"/>
                  <a:pt x="2413" y="307"/>
                  <a:pt x="2441" y="296"/>
                </a:cubicBezTo>
                <a:cubicBezTo>
                  <a:pt x="2469" y="285"/>
                  <a:pt x="2508" y="279"/>
                  <a:pt x="2537" y="280"/>
                </a:cubicBezTo>
                <a:cubicBezTo>
                  <a:pt x="2566" y="281"/>
                  <a:pt x="2592" y="285"/>
                  <a:pt x="2617" y="304"/>
                </a:cubicBezTo>
                <a:cubicBezTo>
                  <a:pt x="2642" y="323"/>
                  <a:pt x="2672" y="367"/>
                  <a:pt x="2689" y="392"/>
                </a:cubicBezTo>
                <a:cubicBezTo>
                  <a:pt x="2706" y="417"/>
                  <a:pt x="2704" y="427"/>
                  <a:pt x="2721" y="456"/>
                </a:cubicBezTo>
                <a:cubicBezTo>
                  <a:pt x="2738" y="485"/>
                  <a:pt x="2768" y="512"/>
                  <a:pt x="2793" y="568"/>
                </a:cubicBezTo>
                <a:cubicBezTo>
                  <a:pt x="2818" y="624"/>
                  <a:pt x="2857" y="728"/>
                  <a:pt x="2873" y="792"/>
                </a:cubicBezTo>
                <a:cubicBezTo>
                  <a:pt x="2889" y="856"/>
                  <a:pt x="2892" y="897"/>
                  <a:pt x="2889" y="952"/>
                </a:cubicBezTo>
                <a:cubicBezTo>
                  <a:pt x="2886" y="1007"/>
                  <a:pt x="2878" y="1080"/>
                  <a:pt x="2857" y="1120"/>
                </a:cubicBezTo>
                <a:cubicBezTo>
                  <a:pt x="2836" y="1160"/>
                  <a:pt x="2790" y="1187"/>
                  <a:pt x="2761" y="1192"/>
                </a:cubicBezTo>
                <a:cubicBezTo>
                  <a:pt x="2732" y="1197"/>
                  <a:pt x="2704" y="1168"/>
                  <a:pt x="2681" y="1152"/>
                </a:cubicBezTo>
                <a:cubicBezTo>
                  <a:pt x="2658" y="1136"/>
                  <a:pt x="2645" y="1111"/>
                  <a:pt x="2625" y="1096"/>
                </a:cubicBezTo>
                <a:cubicBezTo>
                  <a:pt x="2605" y="1081"/>
                  <a:pt x="2596" y="1068"/>
                  <a:pt x="2561" y="1064"/>
                </a:cubicBezTo>
                <a:cubicBezTo>
                  <a:pt x="2526" y="1060"/>
                  <a:pt x="2458" y="1056"/>
                  <a:pt x="2417" y="1072"/>
                </a:cubicBezTo>
                <a:cubicBezTo>
                  <a:pt x="2376" y="1088"/>
                  <a:pt x="2340" y="1128"/>
                  <a:pt x="2313" y="1160"/>
                </a:cubicBezTo>
                <a:cubicBezTo>
                  <a:pt x="2286" y="1192"/>
                  <a:pt x="2264" y="1227"/>
                  <a:pt x="2257" y="1264"/>
                </a:cubicBezTo>
                <a:cubicBezTo>
                  <a:pt x="2250" y="1301"/>
                  <a:pt x="2264" y="1347"/>
                  <a:pt x="2273" y="1384"/>
                </a:cubicBezTo>
                <a:cubicBezTo>
                  <a:pt x="2282" y="1421"/>
                  <a:pt x="2294" y="1460"/>
                  <a:pt x="2313" y="1488"/>
                </a:cubicBezTo>
                <a:cubicBezTo>
                  <a:pt x="2332" y="1516"/>
                  <a:pt x="2362" y="1533"/>
                  <a:pt x="2385" y="1552"/>
                </a:cubicBezTo>
                <a:cubicBezTo>
                  <a:pt x="2408" y="1571"/>
                  <a:pt x="2441" y="1584"/>
                  <a:pt x="2449" y="1600"/>
                </a:cubicBezTo>
                <a:cubicBezTo>
                  <a:pt x="2457" y="1616"/>
                  <a:pt x="2457" y="1625"/>
                  <a:pt x="2433" y="1648"/>
                </a:cubicBezTo>
                <a:cubicBezTo>
                  <a:pt x="2409" y="1671"/>
                  <a:pt x="2357" y="1707"/>
                  <a:pt x="2305" y="1736"/>
                </a:cubicBezTo>
                <a:cubicBezTo>
                  <a:pt x="2253" y="1765"/>
                  <a:pt x="2189" y="1799"/>
                  <a:pt x="2121" y="1824"/>
                </a:cubicBezTo>
                <a:cubicBezTo>
                  <a:pt x="2053" y="1849"/>
                  <a:pt x="1966" y="1871"/>
                  <a:pt x="1897" y="1888"/>
                </a:cubicBezTo>
                <a:cubicBezTo>
                  <a:pt x="1828" y="1905"/>
                  <a:pt x="1762" y="1916"/>
                  <a:pt x="1705" y="1928"/>
                </a:cubicBezTo>
                <a:cubicBezTo>
                  <a:pt x="1648" y="1940"/>
                  <a:pt x="1593" y="1956"/>
                  <a:pt x="1553" y="1960"/>
                </a:cubicBezTo>
                <a:cubicBezTo>
                  <a:pt x="1513" y="1964"/>
                  <a:pt x="1480" y="1964"/>
                  <a:pt x="1465" y="1952"/>
                </a:cubicBezTo>
                <a:cubicBezTo>
                  <a:pt x="1450" y="1940"/>
                  <a:pt x="1469" y="1921"/>
                  <a:pt x="1465" y="1888"/>
                </a:cubicBezTo>
                <a:cubicBezTo>
                  <a:pt x="1461" y="1855"/>
                  <a:pt x="1464" y="1792"/>
                  <a:pt x="1441" y="1752"/>
                </a:cubicBezTo>
                <a:cubicBezTo>
                  <a:pt x="1418" y="1712"/>
                  <a:pt x="1366" y="1672"/>
                  <a:pt x="1329" y="1648"/>
                </a:cubicBezTo>
                <a:cubicBezTo>
                  <a:pt x="1292" y="1624"/>
                  <a:pt x="1265" y="1607"/>
                  <a:pt x="1217" y="1608"/>
                </a:cubicBezTo>
                <a:cubicBezTo>
                  <a:pt x="1169" y="1609"/>
                  <a:pt x="1088" y="1635"/>
                  <a:pt x="1041" y="1656"/>
                </a:cubicBezTo>
                <a:cubicBezTo>
                  <a:pt x="994" y="1677"/>
                  <a:pt x="962" y="1708"/>
                  <a:pt x="937" y="1736"/>
                </a:cubicBezTo>
                <a:cubicBezTo>
                  <a:pt x="912" y="1764"/>
                  <a:pt x="896" y="1785"/>
                  <a:pt x="889" y="1824"/>
                </a:cubicBezTo>
                <a:cubicBezTo>
                  <a:pt x="882" y="1863"/>
                  <a:pt x="904" y="1932"/>
                  <a:pt x="897" y="1968"/>
                </a:cubicBezTo>
                <a:cubicBezTo>
                  <a:pt x="890" y="2004"/>
                  <a:pt x="876" y="2021"/>
                  <a:pt x="849" y="2040"/>
                </a:cubicBezTo>
                <a:cubicBezTo>
                  <a:pt x="822" y="2059"/>
                  <a:pt x="789" y="2081"/>
                  <a:pt x="737" y="2080"/>
                </a:cubicBezTo>
                <a:cubicBezTo>
                  <a:pt x="685" y="2079"/>
                  <a:pt x="608" y="2069"/>
                  <a:pt x="537" y="2032"/>
                </a:cubicBezTo>
                <a:cubicBezTo>
                  <a:pt x="466" y="1995"/>
                  <a:pt x="354" y="1901"/>
                  <a:pt x="313" y="1856"/>
                </a:cubicBezTo>
                <a:cubicBezTo>
                  <a:pt x="272" y="1811"/>
                  <a:pt x="288" y="1789"/>
                  <a:pt x="289" y="1760"/>
                </a:cubicBezTo>
                <a:cubicBezTo>
                  <a:pt x="290" y="1731"/>
                  <a:pt x="302" y="1703"/>
                  <a:pt x="321" y="1680"/>
                </a:cubicBezTo>
                <a:cubicBezTo>
                  <a:pt x="340" y="1657"/>
                  <a:pt x="376" y="1635"/>
                  <a:pt x="401" y="1624"/>
                </a:cubicBezTo>
                <a:cubicBezTo>
                  <a:pt x="426" y="1613"/>
                  <a:pt x="446" y="1616"/>
                  <a:pt x="473" y="1616"/>
                </a:cubicBezTo>
                <a:cubicBezTo>
                  <a:pt x="500" y="1616"/>
                  <a:pt x="534" y="1635"/>
                  <a:pt x="561" y="1624"/>
                </a:cubicBezTo>
                <a:cubicBezTo>
                  <a:pt x="588" y="1613"/>
                  <a:pt x="612" y="1575"/>
                  <a:pt x="633" y="1552"/>
                </a:cubicBezTo>
                <a:cubicBezTo>
                  <a:pt x="654" y="1529"/>
                  <a:pt x="677" y="1510"/>
                  <a:pt x="689" y="1488"/>
                </a:cubicBezTo>
                <a:cubicBezTo>
                  <a:pt x="701" y="1466"/>
                  <a:pt x="705" y="1440"/>
                  <a:pt x="705" y="1416"/>
                </a:cubicBezTo>
                <a:cubicBezTo>
                  <a:pt x="705" y="1392"/>
                  <a:pt x="696" y="1367"/>
                  <a:pt x="689" y="1344"/>
                </a:cubicBezTo>
                <a:cubicBezTo>
                  <a:pt x="682" y="1321"/>
                  <a:pt x="677" y="1299"/>
                  <a:pt x="665" y="1280"/>
                </a:cubicBezTo>
                <a:cubicBezTo>
                  <a:pt x="653" y="1261"/>
                  <a:pt x="636" y="1245"/>
                  <a:pt x="617" y="1232"/>
                </a:cubicBezTo>
                <a:cubicBezTo>
                  <a:pt x="598" y="1219"/>
                  <a:pt x="577" y="1211"/>
                  <a:pt x="553" y="1200"/>
                </a:cubicBezTo>
                <a:cubicBezTo>
                  <a:pt x="529" y="1189"/>
                  <a:pt x="504" y="1172"/>
                  <a:pt x="473" y="1168"/>
                </a:cubicBezTo>
                <a:cubicBezTo>
                  <a:pt x="442" y="1164"/>
                  <a:pt x="401" y="1169"/>
                  <a:pt x="369" y="1176"/>
                </a:cubicBezTo>
                <a:cubicBezTo>
                  <a:pt x="337" y="1183"/>
                  <a:pt x="309" y="1196"/>
                  <a:pt x="281" y="1208"/>
                </a:cubicBezTo>
                <a:cubicBezTo>
                  <a:pt x="253" y="1220"/>
                  <a:pt x="232" y="1248"/>
                  <a:pt x="201" y="1248"/>
                </a:cubicBezTo>
                <a:cubicBezTo>
                  <a:pt x="170" y="1248"/>
                  <a:pt x="120" y="1227"/>
                  <a:pt x="97" y="1208"/>
                </a:cubicBezTo>
                <a:cubicBezTo>
                  <a:pt x="74" y="1189"/>
                  <a:pt x="76" y="1156"/>
                  <a:pt x="65" y="1136"/>
                </a:cubicBezTo>
                <a:cubicBezTo>
                  <a:pt x="54" y="1116"/>
                  <a:pt x="41" y="1107"/>
                  <a:pt x="33" y="1088"/>
                </a:cubicBezTo>
                <a:cubicBezTo>
                  <a:pt x="25" y="1069"/>
                  <a:pt x="22" y="1055"/>
                  <a:pt x="17" y="1024"/>
                </a:cubicBezTo>
                <a:cubicBezTo>
                  <a:pt x="12" y="993"/>
                  <a:pt x="2" y="945"/>
                  <a:pt x="1" y="904"/>
                </a:cubicBezTo>
                <a:cubicBezTo>
                  <a:pt x="0" y="863"/>
                  <a:pt x="4" y="812"/>
                  <a:pt x="9" y="776"/>
                </a:cubicBezTo>
                <a:cubicBezTo>
                  <a:pt x="14" y="740"/>
                  <a:pt x="21" y="720"/>
                  <a:pt x="33" y="688"/>
                </a:cubicBezTo>
                <a:cubicBezTo>
                  <a:pt x="45" y="656"/>
                  <a:pt x="57" y="621"/>
                  <a:pt x="81" y="584"/>
                </a:cubicBezTo>
                <a:cubicBezTo>
                  <a:pt x="105" y="547"/>
                  <a:pt x="146" y="488"/>
                  <a:pt x="177" y="464"/>
                </a:cubicBezTo>
                <a:cubicBezTo>
                  <a:pt x="208" y="440"/>
                  <a:pt x="237" y="441"/>
                  <a:pt x="265" y="440"/>
                </a:cubicBezTo>
                <a:cubicBezTo>
                  <a:pt x="293" y="439"/>
                  <a:pt x="320" y="437"/>
                  <a:pt x="345" y="456"/>
                </a:cubicBezTo>
                <a:cubicBezTo>
                  <a:pt x="370" y="475"/>
                  <a:pt x="396" y="527"/>
                  <a:pt x="417" y="552"/>
                </a:cubicBezTo>
                <a:cubicBezTo>
                  <a:pt x="438" y="577"/>
                  <a:pt x="445" y="591"/>
                  <a:pt x="473" y="608"/>
                </a:cubicBezTo>
                <a:cubicBezTo>
                  <a:pt x="501" y="625"/>
                  <a:pt x="545" y="647"/>
                  <a:pt x="585" y="656"/>
                </a:cubicBezTo>
                <a:cubicBezTo>
                  <a:pt x="625" y="665"/>
                  <a:pt x="672" y="677"/>
                  <a:pt x="713" y="664"/>
                </a:cubicBezTo>
                <a:cubicBezTo>
                  <a:pt x="754" y="651"/>
                  <a:pt x="806" y="608"/>
                  <a:pt x="833" y="576"/>
                </a:cubicBezTo>
                <a:cubicBezTo>
                  <a:pt x="860" y="544"/>
                  <a:pt x="868" y="507"/>
                  <a:pt x="873" y="472"/>
                </a:cubicBezTo>
                <a:cubicBezTo>
                  <a:pt x="878" y="437"/>
                  <a:pt x="872" y="399"/>
                  <a:pt x="865" y="368"/>
                </a:cubicBezTo>
                <a:cubicBezTo>
                  <a:pt x="858" y="337"/>
                  <a:pt x="846" y="311"/>
                  <a:pt x="833" y="288"/>
                </a:cubicBezTo>
                <a:cubicBezTo>
                  <a:pt x="820" y="265"/>
                  <a:pt x="804" y="249"/>
                  <a:pt x="785" y="232"/>
                </a:cubicBezTo>
                <a:cubicBezTo>
                  <a:pt x="766" y="215"/>
                  <a:pt x="694" y="192"/>
                  <a:pt x="713" y="168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4689360" y="3971880"/>
            <a:ext cx="727200" cy="828720"/>
          </a:xfrm>
          <a:custGeom>
            <a:avLst/>
            <a:gdLst/>
            <a:ahLst/>
            <a:rect l="l" t="t" r="r" b="b"/>
            <a:pathLst>
              <a:path w="2892" h="2081">
                <a:moveTo>
                  <a:pt x="713" y="168"/>
                </a:moveTo>
                <a:cubicBezTo>
                  <a:pt x="732" y="144"/>
                  <a:pt x="833" y="111"/>
                  <a:pt x="897" y="88"/>
                </a:cubicBezTo>
                <a:cubicBezTo>
                  <a:pt x="961" y="65"/>
                  <a:pt x="1041" y="45"/>
                  <a:pt x="1097" y="32"/>
                </a:cubicBezTo>
                <a:cubicBezTo>
                  <a:pt x="1153" y="19"/>
                  <a:pt x="1178" y="13"/>
                  <a:pt x="1233" y="8"/>
                </a:cubicBezTo>
                <a:cubicBezTo>
                  <a:pt x="1288" y="3"/>
                  <a:pt x="1354" y="0"/>
                  <a:pt x="1425" y="0"/>
                </a:cubicBezTo>
                <a:cubicBezTo>
                  <a:pt x="1496" y="0"/>
                  <a:pt x="1584" y="1"/>
                  <a:pt x="1657" y="8"/>
                </a:cubicBezTo>
                <a:cubicBezTo>
                  <a:pt x="1730" y="15"/>
                  <a:pt x="1805" y="28"/>
                  <a:pt x="1865" y="40"/>
                </a:cubicBezTo>
                <a:cubicBezTo>
                  <a:pt x="1925" y="52"/>
                  <a:pt x="1985" y="68"/>
                  <a:pt x="2017" y="80"/>
                </a:cubicBezTo>
                <a:cubicBezTo>
                  <a:pt x="2049" y="92"/>
                  <a:pt x="2062" y="95"/>
                  <a:pt x="2057" y="112"/>
                </a:cubicBezTo>
                <a:cubicBezTo>
                  <a:pt x="2052" y="129"/>
                  <a:pt x="2004" y="157"/>
                  <a:pt x="1985" y="184"/>
                </a:cubicBezTo>
                <a:cubicBezTo>
                  <a:pt x="1966" y="211"/>
                  <a:pt x="1954" y="237"/>
                  <a:pt x="1945" y="272"/>
                </a:cubicBezTo>
                <a:cubicBezTo>
                  <a:pt x="1936" y="307"/>
                  <a:pt x="1924" y="355"/>
                  <a:pt x="1929" y="392"/>
                </a:cubicBezTo>
                <a:cubicBezTo>
                  <a:pt x="1934" y="429"/>
                  <a:pt x="1956" y="467"/>
                  <a:pt x="1977" y="496"/>
                </a:cubicBezTo>
                <a:cubicBezTo>
                  <a:pt x="1998" y="525"/>
                  <a:pt x="2026" y="548"/>
                  <a:pt x="2057" y="568"/>
                </a:cubicBezTo>
                <a:cubicBezTo>
                  <a:pt x="2088" y="588"/>
                  <a:pt x="2129" y="608"/>
                  <a:pt x="2161" y="616"/>
                </a:cubicBezTo>
                <a:cubicBezTo>
                  <a:pt x="2193" y="624"/>
                  <a:pt x="2225" y="633"/>
                  <a:pt x="2249" y="616"/>
                </a:cubicBezTo>
                <a:cubicBezTo>
                  <a:pt x="2273" y="599"/>
                  <a:pt x="2296" y="544"/>
                  <a:pt x="2305" y="512"/>
                </a:cubicBezTo>
                <a:cubicBezTo>
                  <a:pt x="2314" y="480"/>
                  <a:pt x="2294" y="452"/>
                  <a:pt x="2305" y="424"/>
                </a:cubicBezTo>
                <a:cubicBezTo>
                  <a:pt x="2316" y="396"/>
                  <a:pt x="2346" y="365"/>
                  <a:pt x="2369" y="344"/>
                </a:cubicBezTo>
                <a:cubicBezTo>
                  <a:pt x="2392" y="323"/>
                  <a:pt x="2413" y="307"/>
                  <a:pt x="2441" y="296"/>
                </a:cubicBezTo>
                <a:cubicBezTo>
                  <a:pt x="2469" y="285"/>
                  <a:pt x="2508" y="279"/>
                  <a:pt x="2537" y="280"/>
                </a:cubicBezTo>
                <a:cubicBezTo>
                  <a:pt x="2566" y="281"/>
                  <a:pt x="2592" y="285"/>
                  <a:pt x="2617" y="304"/>
                </a:cubicBezTo>
                <a:cubicBezTo>
                  <a:pt x="2642" y="323"/>
                  <a:pt x="2672" y="367"/>
                  <a:pt x="2689" y="392"/>
                </a:cubicBezTo>
                <a:cubicBezTo>
                  <a:pt x="2706" y="417"/>
                  <a:pt x="2704" y="427"/>
                  <a:pt x="2721" y="456"/>
                </a:cubicBezTo>
                <a:cubicBezTo>
                  <a:pt x="2738" y="485"/>
                  <a:pt x="2768" y="512"/>
                  <a:pt x="2793" y="568"/>
                </a:cubicBezTo>
                <a:cubicBezTo>
                  <a:pt x="2818" y="624"/>
                  <a:pt x="2857" y="728"/>
                  <a:pt x="2873" y="792"/>
                </a:cubicBezTo>
                <a:cubicBezTo>
                  <a:pt x="2889" y="856"/>
                  <a:pt x="2892" y="897"/>
                  <a:pt x="2889" y="952"/>
                </a:cubicBezTo>
                <a:cubicBezTo>
                  <a:pt x="2886" y="1007"/>
                  <a:pt x="2878" y="1080"/>
                  <a:pt x="2857" y="1120"/>
                </a:cubicBezTo>
                <a:cubicBezTo>
                  <a:pt x="2836" y="1160"/>
                  <a:pt x="2790" y="1187"/>
                  <a:pt x="2761" y="1192"/>
                </a:cubicBezTo>
                <a:cubicBezTo>
                  <a:pt x="2732" y="1197"/>
                  <a:pt x="2704" y="1168"/>
                  <a:pt x="2681" y="1152"/>
                </a:cubicBezTo>
                <a:cubicBezTo>
                  <a:pt x="2658" y="1136"/>
                  <a:pt x="2645" y="1111"/>
                  <a:pt x="2625" y="1096"/>
                </a:cubicBezTo>
                <a:cubicBezTo>
                  <a:pt x="2605" y="1081"/>
                  <a:pt x="2596" y="1068"/>
                  <a:pt x="2561" y="1064"/>
                </a:cubicBezTo>
                <a:cubicBezTo>
                  <a:pt x="2526" y="1060"/>
                  <a:pt x="2458" y="1056"/>
                  <a:pt x="2417" y="1072"/>
                </a:cubicBezTo>
                <a:cubicBezTo>
                  <a:pt x="2376" y="1088"/>
                  <a:pt x="2340" y="1128"/>
                  <a:pt x="2313" y="1160"/>
                </a:cubicBezTo>
                <a:cubicBezTo>
                  <a:pt x="2286" y="1192"/>
                  <a:pt x="2264" y="1227"/>
                  <a:pt x="2257" y="1264"/>
                </a:cubicBezTo>
                <a:cubicBezTo>
                  <a:pt x="2250" y="1301"/>
                  <a:pt x="2264" y="1347"/>
                  <a:pt x="2273" y="1384"/>
                </a:cubicBezTo>
                <a:cubicBezTo>
                  <a:pt x="2282" y="1421"/>
                  <a:pt x="2294" y="1460"/>
                  <a:pt x="2313" y="1488"/>
                </a:cubicBezTo>
                <a:cubicBezTo>
                  <a:pt x="2332" y="1516"/>
                  <a:pt x="2362" y="1533"/>
                  <a:pt x="2385" y="1552"/>
                </a:cubicBezTo>
                <a:cubicBezTo>
                  <a:pt x="2408" y="1571"/>
                  <a:pt x="2441" y="1584"/>
                  <a:pt x="2449" y="1600"/>
                </a:cubicBezTo>
                <a:cubicBezTo>
                  <a:pt x="2457" y="1616"/>
                  <a:pt x="2457" y="1625"/>
                  <a:pt x="2433" y="1648"/>
                </a:cubicBezTo>
                <a:cubicBezTo>
                  <a:pt x="2409" y="1671"/>
                  <a:pt x="2357" y="1707"/>
                  <a:pt x="2305" y="1736"/>
                </a:cubicBezTo>
                <a:cubicBezTo>
                  <a:pt x="2253" y="1765"/>
                  <a:pt x="2189" y="1799"/>
                  <a:pt x="2121" y="1824"/>
                </a:cubicBezTo>
                <a:cubicBezTo>
                  <a:pt x="2053" y="1849"/>
                  <a:pt x="1966" y="1871"/>
                  <a:pt x="1897" y="1888"/>
                </a:cubicBezTo>
                <a:cubicBezTo>
                  <a:pt x="1828" y="1905"/>
                  <a:pt x="1762" y="1916"/>
                  <a:pt x="1705" y="1928"/>
                </a:cubicBezTo>
                <a:cubicBezTo>
                  <a:pt x="1648" y="1940"/>
                  <a:pt x="1593" y="1956"/>
                  <a:pt x="1553" y="1960"/>
                </a:cubicBezTo>
                <a:cubicBezTo>
                  <a:pt x="1513" y="1964"/>
                  <a:pt x="1480" y="1964"/>
                  <a:pt x="1465" y="1952"/>
                </a:cubicBezTo>
                <a:cubicBezTo>
                  <a:pt x="1450" y="1940"/>
                  <a:pt x="1469" y="1921"/>
                  <a:pt x="1465" y="1888"/>
                </a:cubicBezTo>
                <a:cubicBezTo>
                  <a:pt x="1461" y="1855"/>
                  <a:pt x="1464" y="1792"/>
                  <a:pt x="1441" y="1752"/>
                </a:cubicBezTo>
                <a:cubicBezTo>
                  <a:pt x="1418" y="1712"/>
                  <a:pt x="1366" y="1672"/>
                  <a:pt x="1329" y="1648"/>
                </a:cubicBezTo>
                <a:cubicBezTo>
                  <a:pt x="1292" y="1624"/>
                  <a:pt x="1265" y="1607"/>
                  <a:pt x="1217" y="1608"/>
                </a:cubicBezTo>
                <a:cubicBezTo>
                  <a:pt x="1169" y="1609"/>
                  <a:pt x="1088" y="1635"/>
                  <a:pt x="1041" y="1656"/>
                </a:cubicBezTo>
                <a:cubicBezTo>
                  <a:pt x="994" y="1677"/>
                  <a:pt x="962" y="1708"/>
                  <a:pt x="937" y="1736"/>
                </a:cubicBezTo>
                <a:cubicBezTo>
                  <a:pt x="912" y="1764"/>
                  <a:pt x="896" y="1785"/>
                  <a:pt x="889" y="1824"/>
                </a:cubicBezTo>
                <a:cubicBezTo>
                  <a:pt x="882" y="1863"/>
                  <a:pt x="904" y="1932"/>
                  <a:pt x="897" y="1968"/>
                </a:cubicBezTo>
                <a:cubicBezTo>
                  <a:pt x="890" y="2004"/>
                  <a:pt x="876" y="2021"/>
                  <a:pt x="849" y="2040"/>
                </a:cubicBezTo>
                <a:cubicBezTo>
                  <a:pt x="822" y="2059"/>
                  <a:pt x="789" y="2081"/>
                  <a:pt x="737" y="2080"/>
                </a:cubicBezTo>
                <a:cubicBezTo>
                  <a:pt x="685" y="2079"/>
                  <a:pt x="608" y="2069"/>
                  <a:pt x="537" y="2032"/>
                </a:cubicBezTo>
                <a:cubicBezTo>
                  <a:pt x="466" y="1995"/>
                  <a:pt x="354" y="1901"/>
                  <a:pt x="313" y="1856"/>
                </a:cubicBezTo>
                <a:cubicBezTo>
                  <a:pt x="272" y="1811"/>
                  <a:pt x="288" y="1789"/>
                  <a:pt x="289" y="1760"/>
                </a:cubicBezTo>
                <a:cubicBezTo>
                  <a:pt x="290" y="1731"/>
                  <a:pt x="302" y="1703"/>
                  <a:pt x="321" y="1680"/>
                </a:cubicBezTo>
                <a:cubicBezTo>
                  <a:pt x="340" y="1657"/>
                  <a:pt x="376" y="1635"/>
                  <a:pt x="401" y="1624"/>
                </a:cubicBezTo>
                <a:cubicBezTo>
                  <a:pt x="426" y="1613"/>
                  <a:pt x="446" y="1616"/>
                  <a:pt x="473" y="1616"/>
                </a:cubicBezTo>
                <a:cubicBezTo>
                  <a:pt x="500" y="1616"/>
                  <a:pt x="534" y="1635"/>
                  <a:pt x="561" y="1624"/>
                </a:cubicBezTo>
                <a:cubicBezTo>
                  <a:pt x="588" y="1613"/>
                  <a:pt x="612" y="1575"/>
                  <a:pt x="633" y="1552"/>
                </a:cubicBezTo>
                <a:cubicBezTo>
                  <a:pt x="654" y="1529"/>
                  <a:pt x="677" y="1510"/>
                  <a:pt x="689" y="1488"/>
                </a:cubicBezTo>
                <a:cubicBezTo>
                  <a:pt x="701" y="1466"/>
                  <a:pt x="705" y="1440"/>
                  <a:pt x="705" y="1416"/>
                </a:cubicBezTo>
                <a:cubicBezTo>
                  <a:pt x="705" y="1392"/>
                  <a:pt x="696" y="1367"/>
                  <a:pt x="689" y="1344"/>
                </a:cubicBezTo>
                <a:cubicBezTo>
                  <a:pt x="682" y="1321"/>
                  <a:pt x="677" y="1299"/>
                  <a:pt x="665" y="1280"/>
                </a:cubicBezTo>
                <a:cubicBezTo>
                  <a:pt x="653" y="1261"/>
                  <a:pt x="636" y="1245"/>
                  <a:pt x="617" y="1232"/>
                </a:cubicBezTo>
                <a:cubicBezTo>
                  <a:pt x="598" y="1219"/>
                  <a:pt x="577" y="1211"/>
                  <a:pt x="553" y="1200"/>
                </a:cubicBezTo>
                <a:cubicBezTo>
                  <a:pt x="529" y="1189"/>
                  <a:pt x="504" y="1172"/>
                  <a:pt x="473" y="1168"/>
                </a:cubicBezTo>
                <a:cubicBezTo>
                  <a:pt x="442" y="1164"/>
                  <a:pt x="401" y="1169"/>
                  <a:pt x="369" y="1176"/>
                </a:cubicBezTo>
                <a:cubicBezTo>
                  <a:pt x="337" y="1183"/>
                  <a:pt x="309" y="1196"/>
                  <a:pt x="281" y="1208"/>
                </a:cubicBezTo>
                <a:cubicBezTo>
                  <a:pt x="253" y="1220"/>
                  <a:pt x="232" y="1248"/>
                  <a:pt x="201" y="1248"/>
                </a:cubicBezTo>
                <a:cubicBezTo>
                  <a:pt x="170" y="1248"/>
                  <a:pt x="120" y="1227"/>
                  <a:pt x="97" y="1208"/>
                </a:cubicBezTo>
                <a:cubicBezTo>
                  <a:pt x="74" y="1189"/>
                  <a:pt x="76" y="1156"/>
                  <a:pt x="65" y="1136"/>
                </a:cubicBezTo>
                <a:cubicBezTo>
                  <a:pt x="54" y="1116"/>
                  <a:pt x="41" y="1107"/>
                  <a:pt x="33" y="1088"/>
                </a:cubicBezTo>
                <a:cubicBezTo>
                  <a:pt x="25" y="1069"/>
                  <a:pt x="22" y="1055"/>
                  <a:pt x="17" y="1024"/>
                </a:cubicBezTo>
                <a:cubicBezTo>
                  <a:pt x="12" y="993"/>
                  <a:pt x="2" y="945"/>
                  <a:pt x="1" y="904"/>
                </a:cubicBezTo>
                <a:cubicBezTo>
                  <a:pt x="0" y="863"/>
                  <a:pt x="4" y="812"/>
                  <a:pt x="9" y="776"/>
                </a:cubicBezTo>
                <a:cubicBezTo>
                  <a:pt x="14" y="740"/>
                  <a:pt x="21" y="720"/>
                  <a:pt x="33" y="688"/>
                </a:cubicBezTo>
                <a:cubicBezTo>
                  <a:pt x="45" y="656"/>
                  <a:pt x="57" y="621"/>
                  <a:pt x="81" y="584"/>
                </a:cubicBezTo>
                <a:cubicBezTo>
                  <a:pt x="105" y="547"/>
                  <a:pt x="146" y="488"/>
                  <a:pt x="177" y="464"/>
                </a:cubicBezTo>
                <a:cubicBezTo>
                  <a:pt x="208" y="440"/>
                  <a:pt x="237" y="441"/>
                  <a:pt x="265" y="440"/>
                </a:cubicBezTo>
                <a:cubicBezTo>
                  <a:pt x="293" y="439"/>
                  <a:pt x="320" y="437"/>
                  <a:pt x="345" y="456"/>
                </a:cubicBezTo>
                <a:cubicBezTo>
                  <a:pt x="370" y="475"/>
                  <a:pt x="396" y="527"/>
                  <a:pt x="417" y="552"/>
                </a:cubicBezTo>
                <a:cubicBezTo>
                  <a:pt x="438" y="577"/>
                  <a:pt x="445" y="591"/>
                  <a:pt x="473" y="608"/>
                </a:cubicBezTo>
                <a:cubicBezTo>
                  <a:pt x="501" y="625"/>
                  <a:pt x="545" y="647"/>
                  <a:pt x="585" y="656"/>
                </a:cubicBezTo>
                <a:cubicBezTo>
                  <a:pt x="625" y="665"/>
                  <a:pt x="672" y="677"/>
                  <a:pt x="713" y="664"/>
                </a:cubicBezTo>
                <a:cubicBezTo>
                  <a:pt x="754" y="651"/>
                  <a:pt x="806" y="608"/>
                  <a:pt x="833" y="576"/>
                </a:cubicBezTo>
                <a:cubicBezTo>
                  <a:pt x="860" y="544"/>
                  <a:pt x="868" y="507"/>
                  <a:pt x="873" y="472"/>
                </a:cubicBezTo>
                <a:cubicBezTo>
                  <a:pt x="878" y="437"/>
                  <a:pt x="872" y="399"/>
                  <a:pt x="865" y="368"/>
                </a:cubicBezTo>
                <a:cubicBezTo>
                  <a:pt x="858" y="337"/>
                  <a:pt x="846" y="311"/>
                  <a:pt x="833" y="288"/>
                </a:cubicBezTo>
                <a:cubicBezTo>
                  <a:pt x="820" y="265"/>
                  <a:pt x="804" y="249"/>
                  <a:pt x="785" y="232"/>
                </a:cubicBezTo>
                <a:cubicBezTo>
                  <a:pt x="766" y="215"/>
                  <a:pt x="694" y="192"/>
                  <a:pt x="713" y="168"/>
                </a:cubicBezTo>
                <a:close/>
              </a:path>
            </a:pathLst>
          </a:cu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"/>
          <p:cNvSpPr/>
          <p:nvPr/>
        </p:nvSpPr>
        <p:spPr>
          <a:xfrm>
            <a:off x="4726080" y="1335240"/>
            <a:ext cx="725400" cy="828360"/>
          </a:xfrm>
          <a:custGeom>
            <a:avLst/>
            <a:gdLst/>
            <a:ahLst/>
            <a:rect l="l" t="t" r="r" b="b"/>
            <a:pathLst>
              <a:path w="2892" h="2081">
                <a:moveTo>
                  <a:pt x="713" y="168"/>
                </a:moveTo>
                <a:cubicBezTo>
                  <a:pt x="732" y="144"/>
                  <a:pt x="833" y="111"/>
                  <a:pt x="897" y="88"/>
                </a:cubicBezTo>
                <a:cubicBezTo>
                  <a:pt x="961" y="65"/>
                  <a:pt x="1041" y="45"/>
                  <a:pt x="1097" y="32"/>
                </a:cubicBezTo>
                <a:cubicBezTo>
                  <a:pt x="1153" y="19"/>
                  <a:pt x="1178" y="13"/>
                  <a:pt x="1233" y="8"/>
                </a:cubicBezTo>
                <a:cubicBezTo>
                  <a:pt x="1288" y="3"/>
                  <a:pt x="1354" y="0"/>
                  <a:pt x="1425" y="0"/>
                </a:cubicBezTo>
                <a:cubicBezTo>
                  <a:pt x="1496" y="0"/>
                  <a:pt x="1584" y="1"/>
                  <a:pt x="1657" y="8"/>
                </a:cubicBezTo>
                <a:cubicBezTo>
                  <a:pt x="1730" y="15"/>
                  <a:pt x="1805" y="28"/>
                  <a:pt x="1865" y="40"/>
                </a:cubicBezTo>
                <a:cubicBezTo>
                  <a:pt x="1925" y="52"/>
                  <a:pt x="1985" y="68"/>
                  <a:pt x="2017" y="80"/>
                </a:cubicBezTo>
                <a:cubicBezTo>
                  <a:pt x="2049" y="92"/>
                  <a:pt x="2062" y="95"/>
                  <a:pt x="2057" y="112"/>
                </a:cubicBezTo>
                <a:cubicBezTo>
                  <a:pt x="2052" y="129"/>
                  <a:pt x="2004" y="157"/>
                  <a:pt x="1985" y="184"/>
                </a:cubicBezTo>
                <a:cubicBezTo>
                  <a:pt x="1966" y="211"/>
                  <a:pt x="1954" y="237"/>
                  <a:pt x="1945" y="272"/>
                </a:cubicBezTo>
                <a:cubicBezTo>
                  <a:pt x="1936" y="307"/>
                  <a:pt x="1924" y="355"/>
                  <a:pt x="1929" y="392"/>
                </a:cubicBezTo>
                <a:cubicBezTo>
                  <a:pt x="1934" y="429"/>
                  <a:pt x="1956" y="467"/>
                  <a:pt x="1977" y="496"/>
                </a:cubicBezTo>
                <a:cubicBezTo>
                  <a:pt x="1998" y="525"/>
                  <a:pt x="2026" y="548"/>
                  <a:pt x="2057" y="568"/>
                </a:cubicBezTo>
                <a:cubicBezTo>
                  <a:pt x="2088" y="588"/>
                  <a:pt x="2129" y="608"/>
                  <a:pt x="2161" y="616"/>
                </a:cubicBezTo>
                <a:cubicBezTo>
                  <a:pt x="2193" y="624"/>
                  <a:pt x="2225" y="633"/>
                  <a:pt x="2249" y="616"/>
                </a:cubicBezTo>
                <a:cubicBezTo>
                  <a:pt x="2273" y="599"/>
                  <a:pt x="2296" y="544"/>
                  <a:pt x="2305" y="512"/>
                </a:cubicBezTo>
                <a:cubicBezTo>
                  <a:pt x="2314" y="480"/>
                  <a:pt x="2294" y="452"/>
                  <a:pt x="2305" y="424"/>
                </a:cubicBezTo>
                <a:cubicBezTo>
                  <a:pt x="2316" y="396"/>
                  <a:pt x="2346" y="365"/>
                  <a:pt x="2369" y="344"/>
                </a:cubicBezTo>
                <a:cubicBezTo>
                  <a:pt x="2392" y="323"/>
                  <a:pt x="2413" y="307"/>
                  <a:pt x="2441" y="296"/>
                </a:cubicBezTo>
                <a:cubicBezTo>
                  <a:pt x="2469" y="285"/>
                  <a:pt x="2508" y="279"/>
                  <a:pt x="2537" y="280"/>
                </a:cubicBezTo>
                <a:cubicBezTo>
                  <a:pt x="2566" y="281"/>
                  <a:pt x="2592" y="285"/>
                  <a:pt x="2617" y="304"/>
                </a:cubicBezTo>
                <a:cubicBezTo>
                  <a:pt x="2642" y="323"/>
                  <a:pt x="2672" y="367"/>
                  <a:pt x="2689" y="392"/>
                </a:cubicBezTo>
                <a:cubicBezTo>
                  <a:pt x="2706" y="417"/>
                  <a:pt x="2704" y="427"/>
                  <a:pt x="2721" y="456"/>
                </a:cubicBezTo>
                <a:cubicBezTo>
                  <a:pt x="2738" y="485"/>
                  <a:pt x="2768" y="512"/>
                  <a:pt x="2793" y="568"/>
                </a:cubicBezTo>
                <a:cubicBezTo>
                  <a:pt x="2818" y="624"/>
                  <a:pt x="2857" y="728"/>
                  <a:pt x="2873" y="792"/>
                </a:cubicBezTo>
                <a:cubicBezTo>
                  <a:pt x="2889" y="856"/>
                  <a:pt x="2892" y="897"/>
                  <a:pt x="2889" y="952"/>
                </a:cubicBezTo>
                <a:cubicBezTo>
                  <a:pt x="2886" y="1007"/>
                  <a:pt x="2878" y="1080"/>
                  <a:pt x="2857" y="1120"/>
                </a:cubicBezTo>
                <a:cubicBezTo>
                  <a:pt x="2836" y="1160"/>
                  <a:pt x="2790" y="1187"/>
                  <a:pt x="2761" y="1192"/>
                </a:cubicBezTo>
                <a:cubicBezTo>
                  <a:pt x="2732" y="1197"/>
                  <a:pt x="2704" y="1168"/>
                  <a:pt x="2681" y="1152"/>
                </a:cubicBezTo>
                <a:cubicBezTo>
                  <a:pt x="2658" y="1136"/>
                  <a:pt x="2645" y="1111"/>
                  <a:pt x="2625" y="1096"/>
                </a:cubicBezTo>
                <a:cubicBezTo>
                  <a:pt x="2605" y="1081"/>
                  <a:pt x="2596" y="1068"/>
                  <a:pt x="2561" y="1064"/>
                </a:cubicBezTo>
                <a:cubicBezTo>
                  <a:pt x="2526" y="1060"/>
                  <a:pt x="2458" y="1056"/>
                  <a:pt x="2417" y="1072"/>
                </a:cubicBezTo>
                <a:cubicBezTo>
                  <a:pt x="2376" y="1088"/>
                  <a:pt x="2340" y="1128"/>
                  <a:pt x="2313" y="1160"/>
                </a:cubicBezTo>
                <a:cubicBezTo>
                  <a:pt x="2286" y="1192"/>
                  <a:pt x="2264" y="1227"/>
                  <a:pt x="2257" y="1264"/>
                </a:cubicBezTo>
                <a:cubicBezTo>
                  <a:pt x="2250" y="1301"/>
                  <a:pt x="2264" y="1347"/>
                  <a:pt x="2273" y="1384"/>
                </a:cubicBezTo>
                <a:cubicBezTo>
                  <a:pt x="2282" y="1421"/>
                  <a:pt x="2294" y="1460"/>
                  <a:pt x="2313" y="1488"/>
                </a:cubicBezTo>
                <a:cubicBezTo>
                  <a:pt x="2332" y="1516"/>
                  <a:pt x="2362" y="1533"/>
                  <a:pt x="2385" y="1552"/>
                </a:cubicBezTo>
                <a:cubicBezTo>
                  <a:pt x="2408" y="1571"/>
                  <a:pt x="2441" y="1584"/>
                  <a:pt x="2449" y="1600"/>
                </a:cubicBezTo>
                <a:cubicBezTo>
                  <a:pt x="2457" y="1616"/>
                  <a:pt x="2457" y="1625"/>
                  <a:pt x="2433" y="1648"/>
                </a:cubicBezTo>
                <a:cubicBezTo>
                  <a:pt x="2409" y="1671"/>
                  <a:pt x="2357" y="1707"/>
                  <a:pt x="2305" y="1736"/>
                </a:cubicBezTo>
                <a:cubicBezTo>
                  <a:pt x="2253" y="1765"/>
                  <a:pt x="2189" y="1799"/>
                  <a:pt x="2121" y="1824"/>
                </a:cubicBezTo>
                <a:cubicBezTo>
                  <a:pt x="2053" y="1849"/>
                  <a:pt x="1966" y="1871"/>
                  <a:pt x="1897" y="1888"/>
                </a:cubicBezTo>
                <a:cubicBezTo>
                  <a:pt x="1828" y="1905"/>
                  <a:pt x="1762" y="1916"/>
                  <a:pt x="1705" y="1928"/>
                </a:cubicBezTo>
                <a:cubicBezTo>
                  <a:pt x="1648" y="1940"/>
                  <a:pt x="1593" y="1956"/>
                  <a:pt x="1553" y="1960"/>
                </a:cubicBezTo>
                <a:cubicBezTo>
                  <a:pt x="1513" y="1964"/>
                  <a:pt x="1480" y="1964"/>
                  <a:pt x="1465" y="1952"/>
                </a:cubicBezTo>
                <a:cubicBezTo>
                  <a:pt x="1450" y="1940"/>
                  <a:pt x="1469" y="1921"/>
                  <a:pt x="1465" y="1888"/>
                </a:cubicBezTo>
                <a:cubicBezTo>
                  <a:pt x="1461" y="1855"/>
                  <a:pt x="1464" y="1792"/>
                  <a:pt x="1441" y="1752"/>
                </a:cubicBezTo>
                <a:cubicBezTo>
                  <a:pt x="1418" y="1712"/>
                  <a:pt x="1366" y="1672"/>
                  <a:pt x="1329" y="1648"/>
                </a:cubicBezTo>
                <a:cubicBezTo>
                  <a:pt x="1292" y="1624"/>
                  <a:pt x="1265" y="1607"/>
                  <a:pt x="1217" y="1608"/>
                </a:cubicBezTo>
                <a:cubicBezTo>
                  <a:pt x="1169" y="1609"/>
                  <a:pt x="1088" y="1635"/>
                  <a:pt x="1041" y="1656"/>
                </a:cubicBezTo>
                <a:cubicBezTo>
                  <a:pt x="994" y="1677"/>
                  <a:pt x="962" y="1708"/>
                  <a:pt x="937" y="1736"/>
                </a:cubicBezTo>
                <a:cubicBezTo>
                  <a:pt x="912" y="1764"/>
                  <a:pt x="896" y="1785"/>
                  <a:pt x="889" y="1824"/>
                </a:cubicBezTo>
                <a:cubicBezTo>
                  <a:pt x="882" y="1863"/>
                  <a:pt x="904" y="1932"/>
                  <a:pt x="897" y="1968"/>
                </a:cubicBezTo>
                <a:cubicBezTo>
                  <a:pt x="890" y="2004"/>
                  <a:pt x="876" y="2021"/>
                  <a:pt x="849" y="2040"/>
                </a:cubicBezTo>
                <a:cubicBezTo>
                  <a:pt x="822" y="2059"/>
                  <a:pt x="789" y="2081"/>
                  <a:pt x="737" y="2080"/>
                </a:cubicBezTo>
                <a:cubicBezTo>
                  <a:pt x="685" y="2079"/>
                  <a:pt x="608" y="2069"/>
                  <a:pt x="537" y="2032"/>
                </a:cubicBezTo>
                <a:cubicBezTo>
                  <a:pt x="466" y="1995"/>
                  <a:pt x="354" y="1901"/>
                  <a:pt x="313" y="1856"/>
                </a:cubicBezTo>
                <a:cubicBezTo>
                  <a:pt x="272" y="1811"/>
                  <a:pt x="288" y="1789"/>
                  <a:pt x="289" y="1760"/>
                </a:cubicBezTo>
                <a:cubicBezTo>
                  <a:pt x="290" y="1731"/>
                  <a:pt x="302" y="1703"/>
                  <a:pt x="321" y="1680"/>
                </a:cubicBezTo>
                <a:cubicBezTo>
                  <a:pt x="340" y="1657"/>
                  <a:pt x="376" y="1635"/>
                  <a:pt x="401" y="1624"/>
                </a:cubicBezTo>
                <a:cubicBezTo>
                  <a:pt x="426" y="1613"/>
                  <a:pt x="446" y="1616"/>
                  <a:pt x="473" y="1616"/>
                </a:cubicBezTo>
                <a:cubicBezTo>
                  <a:pt x="500" y="1616"/>
                  <a:pt x="534" y="1635"/>
                  <a:pt x="561" y="1624"/>
                </a:cubicBezTo>
                <a:cubicBezTo>
                  <a:pt x="588" y="1613"/>
                  <a:pt x="612" y="1575"/>
                  <a:pt x="633" y="1552"/>
                </a:cubicBezTo>
                <a:cubicBezTo>
                  <a:pt x="654" y="1529"/>
                  <a:pt x="677" y="1510"/>
                  <a:pt x="689" y="1488"/>
                </a:cubicBezTo>
                <a:cubicBezTo>
                  <a:pt x="701" y="1466"/>
                  <a:pt x="705" y="1440"/>
                  <a:pt x="705" y="1416"/>
                </a:cubicBezTo>
                <a:cubicBezTo>
                  <a:pt x="705" y="1392"/>
                  <a:pt x="696" y="1367"/>
                  <a:pt x="689" y="1344"/>
                </a:cubicBezTo>
                <a:cubicBezTo>
                  <a:pt x="682" y="1321"/>
                  <a:pt x="677" y="1299"/>
                  <a:pt x="665" y="1280"/>
                </a:cubicBezTo>
                <a:cubicBezTo>
                  <a:pt x="653" y="1261"/>
                  <a:pt x="636" y="1245"/>
                  <a:pt x="617" y="1232"/>
                </a:cubicBezTo>
                <a:cubicBezTo>
                  <a:pt x="598" y="1219"/>
                  <a:pt x="577" y="1211"/>
                  <a:pt x="553" y="1200"/>
                </a:cubicBezTo>
                <a:cubicBezTo>
                  <a:pt x="529" y="1189"/>
                  <a:pt x="504" y="1172"/>
                  <a:pt x="473" y="1168"/>
                </a:cubicBezTo>
                <a:cubicBezTo>
                  <a:pt x="442" y="1164"/>
                  <a:pt x="401" y="1169"/>
                  <a:pt x="369" y="1176"/>
                </a:cubicBezTo>
                <a:cubicBezTo>
                  <a:pt x="337" y="1183"/>
                  <a:pt x="309" y="1196"/>
                  <a:pt x="281" y="1208"/>
                </a:cubicBezTo>
                <a:cubicBezTo>
                  <a:pt x="253" y="1220"/>
                  <a:pt x="232" y="1248"/>
                  <a:pt x="201" y="1248"/>
                </a:cubicBezTo>
                <a:cubicBezTo>
                  <a:pt x="170" y="1248"/>
                  <a:pt x="120" y="1227"/>
                  <a:pt x="97" y="1208"/>
                </a:cubicBezTo>
                <a:cubicBezTo>
                  <a:pt x="74" y="1189"/>
                  <a:pt x="76" y="1156"/>
                  <a:pt x="65" y="1136"/>
                </a:cubicBezTo>
                <a:cubicBezTo>
                  <a:pt x="54" y="1116"/>
                  <a:pt x="41" y="1107"/>
                  <a:pt x="33" y="1088"/>
                </a:cubicBezTo>
                <a:cubicBezTo>
                  <a:pt x="25" y="1069"/>
                  <a:pt x="22" y="1055"/>
                  <a:pt x="17" y="1024"/>
                </a:cubicBezTo>
                <a:cubicBezTo>
                  <a:pt x="12" y="993"/>
                  <a:pt x="2" y="945"/>
                  <a:pt x="1" y="904"/>
                </a:cubicBezTo>
                <a:cubicBezTo>
                  <a:pt x="0" y="863"/>
                  <a:pt x="4" y="812"/>
                  <a:pt x="9" y="776"/>
                </a:cubicBezTo>
                <a:cubicBezTo>
                  <a:pt x="14" y="740"/>
                  <a:pt x="21" y="720"/>
                  <a:pt x="33" y="688"/>
                </a:cubicBezTo>
                <a:cubicBezTo>
                  <a:pt x="45" y="656"/>
                  <a:pt x="57" y="621"/>
                  <a:pt x="81" y="584"/>
                </a:cubicBezTo>
                <a:cubicBezTo>
                  <a:pt x="105" y="547"/>
                  <a:pt x="146" y="488"/>
                  <a:pt x="177" y="464"/>
                </a:cubicBezTo>
                <a:cubicBezTo>
                  <a:pt x="208" y="440"/>
                  <a:pt x="237" y="441"/>
                  <a:pt x="265" y="440"/>
                </a:cubicBezTo>
                <a:cubicBezTo>
                  <a:pt x="293" y="439"/>
                  <a:pt x="320" y="437"/>
                  <a:pt x="345" y="456"/>
                </a:cubicBezTo>
                <a:cubicBezTo>
                  <a:pt x="370" y="475"/>
                  <a:pt x="396" y="527"/>
                  <a:pt x="417" y="552"/>
                </a:cubicBezTo>
                <a:cubicBezTo>
                  <a:pt x="438" y="577"/>
                  <a:pt x="445" y="591"/>
                  <a:pt x="473" y="608"/>
                </a:cubicBezTo>
                <a:cubicBezTo>
                  <a:pt x="501" y="625"/>
                  <a:pt x="545" y="647"/>
                  <a:pt x="585" y="656"/>
                </a:cubicBezTo>
                <a:cubicBezTo>
                  <a:pt x="625" y="665"/>
                  <a:pt x="672" y="677"/>
                  <a:pt x="713" y="664"/>
                </a:cubicBezTo>
                <a:cubicBezTo>
                  <a:pt x="754" y="651"/>
                  <a:pt x="806" y="608"/>
                  <a:pt x="833" y="576"/>
                </a:cubicBezTo>
                <a:cubicBezTo>
                  <a:pt x="860" y="544"/>
                  <a:pt x="868" y="507"/>
                  <a:pt x="873" y="472"/>
                </a:cubicBezTo>
                <a:cubicBezTo>
                  <a:pt x="878" y="437"/>
                  <a:pt x="872" y="399"/>
                  <a:pt x="865" y="368"/>
                </a:cubicBezTo>
                <a:cubicBezTo>
                  <a:pt x="858" y="337"/>
                  <a:pt x="846" y="311"/>
                  <a:pt x="833" y="288"/>
                </a:cubicBezTo>
                <a:cubicBezTo>
                  <a:pt x="820" y="265"/>
                  <a:pt x="804" y="249"/>
                  <a:pt x="785" y="232"/>
                </a:cubicBezTo>
                <a:cubicBezTo>
                  <a:pt x="766" y="215"/>
                  <a:pt x="694" y="192"/>
                  <a:pt x="713" y="168"/>
                </a:cubicBezTo>
                <a:close/>
              </a:path>
            </a:pathLst>
          </a:cu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315200" y="5376960"/>
            <a:ext cx="1828800" cy="148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7315200" y="5376960"/>
            <a:ext cx="1828800" cy="148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87280" y="836640"/>
            <a:ext cx="8739000" cy="5905440"/>
            <a:chOff x="287280" y="836640"/>
            <a:chExt cx="8739000" cy="5905440"/>
          </a:xfrm>
        </p:grpSpPr>
        <p:sp>
          <p:nvSpPr>
            <p:cNvPr id="122" name=""/>
            <p:cNvSpPr/>
            <p:nvPr/>
          </p:nvSpPr>
          <p:spPr>
            <a:xfrm>
              <a:off x="287280" y="836640"/>
              <a:ext cx="8739000" cy="590544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69200" y="857520"/>
              <a:ext cx="0" cy="5884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7280" y="3810240"/>
              <a:ext cx="8739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78240" y="3440160"/>
              <a:ext cx="4356720" cy="7333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2519280" y="3645000"/>
            <a:ext cx="40878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7235f"/>
                </a:solidFill>
                <a:latin typeface="Comic Sans MS"/>
              </a:rPr>
              <a:t>Title of Fairy T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358920" y="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nk about a fairy tale you’ve heard.  Retell the plot of the ta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907920"/>
            <a:ext cx="40878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Begin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"/>
          <p:cNvSpPr/>
          <p:nvPr/>
        </p:nvSpPr>
        <p:spPr>
          <a:xfrm>
            <a:off x="4751280" y="907920"/>
            <a:ext cx="40878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Comic Sans MS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3968640"/>
            <a:ext cx="28814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4896000" y="4329000"/>
            <a:ext cx="3960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Comic Sans MS"/>
              </a:rPr>
              <a:t>Moment of Truth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22:28:17Z</dcterms:created>
  <dc:creator>Cooper</dc:creator>
  <dc:description/>
  <cp:keywords>Education</cp:keywords>
  <dc:language>en-US</dc:language>
  <cp:lastModifiedBy>ECPS-User</cp:lastModifiedBy>
  <dcterms:modified xsi:type="dcterms:W3CDTF">2009-04-06T18:49:15Z</dcterms:modified>
  <cp:revision>62</cp:revision>
  <dc:subject>Template Ready</dc:subject>
  <dc:title>Slide 1</dc:title>
</cp:coreProperties>
</file>